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217-ACCD-431B-8DC3-D4B78512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C9F-650C-4071-96B1-AF143285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FBA-6F49-4262-A930-028F7735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F13-EA98-4532-AEEB-1D9D5063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B94-37F9-4DAE-BF5B-7F8112C2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646-4633-4343-9391-CB821755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08E-1ACC-477E-BA87-21A42005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523-F4C6-4345-BB3B-C198A337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2A7-50BC-4990-BC7B-C3DDBC8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C10-BEF7-4A32-9908-261A2DD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061-D09C-4006-A651-D558D362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9FA-AD85-47D5-B9D0-822E416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20F-D845-444D-A05B-8A99CCD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593-81F3-4B6B-803E-C48A4EC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8D88-95FA-4587-980E-E44DD2C97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1:34Z</dcterms:modified>
  <cp:revision>102</cp:revision>
  <dc:subject/>
  <dc:title>Profile</dc:title>
</cp:coreProperties>
</file>